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38FC-F190-4097-BDA3-20F63DB20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5A79-74FD-47DF-B32D-4A10A902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CF42-45D1-466F-AFEC-752F1D5F7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072E-E075-42E2-8CE1-F18A5F0AA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07A4-1050-4B2D-AA4D-854AB0FAA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5990-88CA-4B37-B9E4-C6058EA6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D620-8709-4E51-B867-B4071C2A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6E97-B6AE-4587-A802-5D69F5AD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AC9B-7500-4971-84C3-AD3E5B4E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A13F-6E5C-43D0-83D2-C6210FA1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101A-928E-494B-94AB-5E214455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B705-763F-42EE-A575-730979F3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7653-7EDC-4CF4-865B-2AE56126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3C6D-30EC-4F30-A060-9A0CDE22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8D97-AABA-49CD-B69F-DC388334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CEFD-511B-4587-8AEF-E52D57E1C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358A-FC2C-4DC8-B5D3-5033F90ED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AE9A-4CD1-47B6-A8CB-067275C1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D5E6-3D47-4DAA-98CD-C610AE58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315E-E478-4982-9914-E2F660A1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C0AE-FB8D-4651-AECD-0948C170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361D-8B3F-40C7-BB1F-CEA862B6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0C6D-0DAB-4EE1-A289-13E79719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AA85-7A76-4A78-B638-1612417C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7AAA-8D74-427D-9A2D-C8605AC5B1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E3E7-FCD6-401A-8039-DC6505211A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 7-Juni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ence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ish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OL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entence Combining Practi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Fall of the House Of Usher-Answer the following in your notebook: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ass the time, what does Roderick do?  (Name at least 2 things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Madeline dies, what does Roderick plan to do with the body?  Why?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Roderick blame for his mental st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is the song/poem that Roderick wrote a foreshadowing of his f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Questions to think about as we finish the story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ffect does the storm have on the narrator and Roderi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his sister’s death, how does Roderick chan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book do they read to pass the time? How does this add to their nervousn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tarts to happen to our narra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ppens to Roderi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omework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04:41:05Z</dcterms:created>
  <dc:creator>Angie</dc:creator>
  <dc:description/>
  <dc:language>en-US</dc:language>
  <cp:lastModifiedBy>Angie</cp:lastModifiedBy>
  <dcterms:modified xsi:type="dcterms:W3CDTF">2009-08-27T05:15:40Z</dcterms:modified>
  <cp:revision>2</cp:revision>
  <dc:subject/>
  <dc:title>English</dc:title>
</cp:coreProperties>
</file>